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B831-BADD-4A85-AAA7-60B05A96C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0DB3-2166-414F-84D2-E1FD0FD4A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23DA-C907-4B6A-B9A4-37CE898C5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0F69-A455-4AD9-9D89-282FA808C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5771-64F3-4D79-96CE-B2BFBDC4D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E20E-99A1-47A2-B1CB-EB4589D4A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81F7-42FF-4BB0-BA39-267D65F1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CD5F-B85B-4304-B7C0-D30B614A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471E-9A62-4072-BA42-6D269DEA2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B495-51EF-4F7B-BE17-6BBE35717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F036-F35E-4CC3-8616-243F2BBD0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2F29-2432-4C3D-9A8B-973CFDC72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F4E68-150F-4C3C-BF02-32B2CEDC1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4E589-9F3D-4579-87CF-A64D00F8F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C7269-DA3C-4CB7-A30A-BAB987950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85B02-8C5C-461B-80ED-F2A1A38A9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BD69E-F2EC-4116-A999-B68ED6156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96558-4720-4E25-8982-D430DDE2A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5E03A-7BF6-4626-A9D5-F2627122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4CC77-90ED-427F-9FD1-323B07047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DD65E-8EF7-4EE3-997F-19A1218F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3368A-7F4C-4F02-B397-0C774F06A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42D60-2BCD-40C4-B8C7-70EF0C255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07980-C265-47E7-AA3A-B7E4AD1C5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41F7C-BA19-474D-86F1-BF4307600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CBED6-8586-438A-A98E-5538403A1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3D5F9-5FC4-4C91-90D4-CEE7A40AD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142CA-4A36-4C0E-B5D7-4031D820B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9EA62-552F-4352-A12A-E218553DE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E015A-FEEE-42CF-8DC5-9E49DA788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7C60A-0379-4CA5-88C7-E44E11D0C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38DFF-009F-4AF3-B4E1-C1388C60B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7B2D8-F964-4C45-B895-DADFC63A8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CBD61-B126-4238-8947-36BB4F002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F268E-1F94-44C7-9083-AF2E3B43E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65D82-EF77-4DC6-95F7-0B17D5F7E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899BA-627A-406B-98AA-00F532F82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04B1D-9E2C-42CB-871D-042283097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EC057-6EC5-4754-9DB5-4E116DE37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072CE-EB5F-4382-98B4-B3963E238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41710-D3C5-45C1-B0E9-8AEFBA41B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A3301-7171-4315-9CBD-708B1B57C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DF722-C545-46A9-B0E6-0F3FFD31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4D914-1414-400A-9CF0-3193063F3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5789E-4262-44F0-935C-763A7784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548FA-69A0-45B6-BE9B-5C7D36F13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E5CCF-D0F9-4775-86FD-4ABD0F746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2C77E-D3FF-49AC-A89B-19C2693BE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CBF6F-98A6-4A0E-826B-6454E26BE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27705B-C60C-42FD-ABC0-3288ABDA3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F2B403-2266-4C6E-81FB-E74C35DEB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E242A-F807-42A4-99E4-D867ACC21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6CD71-D49A-48D2-9DFD-B517553E3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75D332-312B-4028-8B6F-BE363E71D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C5629-E94F-49F8-B36E-56C7E8CBF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481DD-EECC-4CB2-A530-0EA390C0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149C1C-FC96-40FE-BC55-B6B55C232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ADD42-0E3F-4F46-9935-03669DAE1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4B4C6D-F7F2-4AA0-B958-7617C6FD6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54C84-B9B3-405D-B2B5-A59E77ED8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FA3F5D-6596-448F-B511-CE87DCE83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2C0DFA-5AD2-4EDD-9D98-418332FF6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02DDD5-8F16-4806-86EF-875156E01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3EB607-3F80-407D-BE8D-1C01FD8E4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9AC2C3-EFDE-47FA-829E-A59454A0D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B1EDF4-46E3-44EC-8851-08A3041B6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D8F307-D3A7-46A9-91B4-8C2697DBC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E2685B-089B-4B4C-BB45-284B7E038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D973BF-C1A2-49FA-8732-2670D73F0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D7F7A1-3659-427C-B2A8-1D4374016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4787AE-3C97-4D28-85A2-DB2CACEAD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1F5BAA-3EC6-4BFB-9B79-642D514D8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3"/>
          <a:stretch/>
        </p:blipFill>
        <p:spPr>
          <a:xfrm>
            <a:off x="0" y="-1440"/>
            <a:ext cx="12192120" cy="6859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F9C5D-0AEC-4C02-9FB9-75315952C88B}" type="slidenum">
              <a:rPr b="0" lang="id-ID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8F7A2-57CD-4664-8712-632C1B717FD2}" type="slidenum">
              <a:rPr b="0" lang="id-ID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9C314-EFA7-4263-B25B-4207B59FE0AE}" type="slidenum">
              <a:rPr b="0" lang="id-ID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CC3CF-0054-4736-8437-A092DF2F54E3}" type="slidenum">
              <a:rPr b="0" lang="id-ID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8CA8A-4C3B-41CC-8F2E-DCD6E2258979}" type="slidenum">
              <a:rPr b="0" lang="id-ID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8B9BD-7101-4419-A487-1ED41B48A12D}" type="slidenum">
              <a:rPr b="0" lang="id-ID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1"/>
          <p:cNvSpPr/>
          <p:nvPr/>
        </p:nvSpPr>
        <p:spPr>
          <a:xfrm>
            <a:off x="3592440" y="724320"/>
            <a:ext cx="4772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60000"/>
                </a:solidFill>
                <a:latin typeface="Times New Roman"/>
                <a:ea typeface="Times New Roman"/>
              </a:rPr>
              <a:t>PENERIMAAN MAHASISWA BA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60000"/>
                </a:solidFill>
                <a:latin typeface="Times New Roman"/>
                <a:ea typeface="Times New Roman"/>
              </a:rPr>
              <a:t>JALUR MANDIRI TAHUN 20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60000"/>
                </a:solidFill>
                <a:latin typeface="Times New Roman"/>
                <a:ea typeface="Times New Roman"/>
              </a:rPr>
              <a:t>ISI SURAKA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11"/>
          <p:cNvSpPr/>
          <p:nvPr/>
        </p:nvSpPr>
        <p:spPr>
          <a:xfrm>
            <a:off x="4375080" y="2138400"/>
            <a:ext cx="6572160" cy="2014200"/>
          </a:xfrm>
          <a:prstGeom prst="rect">
            <a:avLst/>
          </a:prstGeom>
          <a:solidFill>
            <a:srgbClr val="ffffff"/>
          </a:solidFill>
          <a:ln w="190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  <a:ea typeface="Cambria"/>
              </a:rPr>
              <a:t>Nama Peserta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  <a:ea typeface="Cambri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  <a:ea typeface="Cambria"/>
              </a:rPr>
              <a:t>: …………………………………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  <a:ea typeface="Cambria"/>
              </a:rPr>
              <a:t>NISN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  <a:ea typeface="Cambri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  <a:ea typeface="Cambri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  <a:ea typeface="Cambria"/>
              </a:rPr>
              <a:t>: ……………………………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  <a:ea typeface="Cambria"/>
              </a:rPr>
              <a:t>Asal Sekolah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  <a:ea typeface="Cambri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  <a:ea typeface="Cambria"/>
              </a:rPr>
              <a:t>: ……………………………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itle 1"/>
          <p:cNvSpPr/>
          <p:nvPr/>
        </p:nvSpPr>
        <p:spPr>
          <a:xfrm>
            <a:off x="1104840" y="2138400"/>
            <a:ext cx="2865600" cy="3944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Cantumkan foto terbaru seluruh badan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Box 1"/>
          <p:cNvSpPr/>
          <p:nvPr/>
        </p:nvSpPr>
        <p:spPr>
          <a:xfrm>
            <a:off x="3135240" y="3013200"/>
            <a:ext cx="5921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Calibri"/>
              </a:rPr>
              <a:t>Karya Fotografi Berwar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Calibri"/>
              </a:rPr>
              <a:t>(Hasil Pindai/Sca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262626"/>
                </a:solidFill>
                <a:latin typeface="Calibri"/>
              </a:rPr>
              <a:t>Berilah judul yang menarik dan sertakan data teknis pemotret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Box 1"/>
          <p:cNvSpPr/>
          <p:nvPr/>
        </p:nvSpPr>
        <p:spPr>
          <a:xfrm>
            <a:off x="3819600" y="2890800"/>
            <a:ext cx="4552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Calibri"/>
              </a:rPr>
              <a:t>Karya Fotografi Ceri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Calibri"/>
              </a:rPr>
              <a:t>(Hasil Pindai/Sca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262626"/>
                </a:solidFill>
                <a:latin typeface="Calibri"/>
              </a:rPr>
              <a:t>3 karya foto yang saling berhubungan dan jelaskan cerita foto tersebut kedalam tulisan yang menari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Box 1"/>
          <p:cNvSpPr/>
          <p:nvPr/>
        </p:nvSpPr>
        <p:spPr>
          <a:xfrm>
            <a:off x="4494240" y="3137040"/>
            <a:ext cx="320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Calibri"/>
              </a:rPr>
              <a:t>Deskripsi Di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Calibri"/>
              </a:rPr>
              <a:t>(Hasil Pindai/Sca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Box 5"/>
          <p:cNvSpPr/>
          <p:nvPr/>
        </p:nvSpPr>
        <p:spPr>
          <a:xfrm>
            <a:off x="4338720" y="3137040"/>
            <a:ext cx="3514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Calibri"/>
              </a:rPr>
              <a:t>Bukti Raihan Prestasi, bila 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Calibri"/>
              </a:rPr>
              <a:t>(Hasil Pindai/Sca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Box 5"/>
          <p:cNvSpPr/>
          <p:nvPr/>
        </p:nvSpPr>
        <p:spPr>
          <a:xfrm>
            <a:off x="4452840" y="3013200"/>
            <a:ext cx="32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Calibri"/>
              </a:rPr>
              <a:t>Surat Pernyata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Calibri"/>
              </a:rPr>
              <a:t>Orisinalitas Data/Doku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Calibri"/>
              </a:rPr>
              <a:t>(Hasil Pindai/Sca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1-28T07:10:12Z</dcterms:created>
  <dc:creator>asyarief</dc:creator>
  <dc:description/>
  <dc:language>en-US</dc:language>
  <cp:lastModifiedBy>NIKMATUZ ZUHRA AINY</cp:lastModifiedBy>
  <dcterms:modified xsi:type="dcterms:W3CDTF">2025-05-27T04:06:30Z</dcterms:modified>
  <cp:revision>35</cp:revision>
  <dc:subject/>
  <dc:title>Slide 1</dc:title>
</cp:coreProperties>
</file>